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ftr" idx="74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 type="sldNum" idx="75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E3F-70E0-45F1-B78B-BC2266D9A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C787-C285-4375-A8E4-CF9B96EF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70C8-FDCD-4014-ADF6-1A296EF6D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ABE8-9F84-43C8-9BAA-681A8CDA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370B-13D3-4E42-B738-2CF421C2B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BAF8-622A-4747-B0B1-5BAC9B55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394-D828-4A60-8E89-42281122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B97-DCBE-4113-8E0B-845A7E7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728D7-F077-4595-AA83-F4F441B7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16304-0A5B-4405-8BDC-025AA912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C1464-912E-447F-A0C6-8F1AA4FD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48720-923F-467C-A6A2-F7252EB1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37DED-564C-4346-9EA1-D082B15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B97A-DADD-4477-8FE0-0BC87723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2D43C-46FF-414A-8A54-B2DA2C57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C9BCD-C468-40ED-B6CE-BCEB1F82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2258B-5E47-43E5-9783-C1C0BAD3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252A9-BAE1-49F4-9D90-B3CC72D9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881-B98A-475B-8F61-EEF8E201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75245-8BFF-454F-8CA1-10E8C137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D3427-AC42-4913-9675-0BDA5076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26B1C-216B-4C44-A3D2-8039E1A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2DF9-B9E2-4DBC-BDE4-AD4B027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BAFE4-0E2E-4684-AEF5-DECE800D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605F5-9E81-40B8-9DF7-7B48616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7054C-72B4-4136-A6DF-F1350381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281E0-003F-422A-8280-F3CA4EF1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31CAD-AE22-4699-A22E-9B702B6F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085B8-EBF1-476D-B85E-34626D1C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7E8-3A15-4C73-B930-4E0DC917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5F559-0257-4453-926F-CEDE4F92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B2465-E188-49AC-B4DF-E03FE801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6B73F-8C9F-4BA6-972A-C225AE4E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517EF-23CE-46F3-8109-61A027C5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02168-EE77-470B-AC27-C3F742F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2E08C-9E02-429A-A4BE-E4B5F1BA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C65F5-E355-49C3-ACC0-734A2A7D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68347-8538-4B8F-9DCA-8B81B42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60911-0667-478A-8DF0-FA058A5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F0F0E-BE25-4628-9832-EB5AD53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DD05-0EDF-40CE-9796-CD491176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E688A-99AB-4CC2-9B39-9BA6B1DB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48910-C2F7-4CCA-B5C6-4BFFD989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E6C2-A2FF-46AA-AC06-546D2C9A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64E6D-2EFE-49DE-9FE4-D479EBD6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AF16F-857D-479E-9588-13F2F222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3972F-BE9E-4D40-A811-90BF6B61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20EEC-940B-487D-8E8F-8C59897A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88A18-E044-4080-B43F-17D9E359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3F8D7-3DE0-4D65-B1A7-BF44960B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0CB6B-1287-4313-9967-5DAD8B9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BAD1-316A-43EC-B429-6D5733C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7CF23-6F97-4363-82BD-9A8865A8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AC769-4C7D-4528-B532-3A39313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FC4C2-B910-484D-A551-CA99C45F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EA87C-6D15-4D7C-AEB5-51E076FD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A81B1-A098-4F40-AC42-83EA9348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3B6A6-9D06-403E-BF2A-F966656A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C225E-A972-45E4-A1E4-BA65BF21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D873C-14E9-4EAF-9B85-43FBEE2B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7E1E9-E6A7-49A4-B456-4EE35BFB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F342C-8E32-4FF4-BCD0-A6BD5FD9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A0AB-FD09-48B0-8413-8FD7D22C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AEECF-215F-44B3-A4D7-4C8F283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CD628-D64F-4D35-A4E7-9CE8DCF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93318-AF36-4552-BEF9-11ACAD0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E4DAA-3C87-411F-9CAB-BBC202C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51FEC-66D9-4B94-8647-E4DB36C3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54931-D7ED-4FD7-9461-5680C5F6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B42A7-CDB0-4F51-B247-6DF98656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6720D-B6B1-4A98-B0B9-9C085D33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0F5F7-CB01-41BC-B8D4-A6B00D3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FD646-3265-4CA6-B55C-0B3F310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7EB5-5949-4B35-862D-F5DF0DD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36851-87EA-44E4-9CD4-E4AC19F8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E1A52-641F-40AF-BC76-4EEE767A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C796A-B9F9-480B-B2D1-17F301A8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76E45-B8EC-4FA7-8F14-BE760C6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708CA-6ACE-48CE-8B03-9FEF865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2C2C2-EA9F-4D49-8EA1-BE60351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F593E-B505-4C79-AC95-0C762EEF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83C1D-66B9-4254-BC5D-7FD2C3A9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FED1F-06A1-4964-BDE1-24C0629B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AB0E77-3E21-432D-BFD2-AE1D85FB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085F-396B-4099-A5C4-BDB27CE1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2D45D-4D40-4D8C-B6A4-376A709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2AC692-F27D-4C3E-95E5-00EA3F27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E70409-A5F7-4EC0-BA43-BA629FEC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4B6578-2DB0-4B58-908A-AC35DBB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B510F4-4E90-46E3-BFFC-2B1DE99B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042E5D-3960-4B91-92B5-A58388A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582E75-8763-4BC8-A8AA-ED281620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550741-7C0C-4DEB-B01A-4DCE1273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1F61FF-E8AF-4A02-8B18-CE965E88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5DE1F5-2A63-4776-8551-91D94EDA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34C3-3C1E-4DC8-B030-F2836479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B56D7E-5108-4C75-97D1-64ABA30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F39C5-1C25-42E3-8DF6-42D7636C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A7D4F-4830-41A0-B21C-63F40BC3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3E864-D2A1-483F-9941-499024AF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9BEE0-9043-4B3A-9266-92AD426A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8F98C-232A-4858-BD34-C3DB8B8E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82971-9C2D-41E2-B0D8-F0A86F08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758098-C763-4177-BDEC-F159C71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91870-B5CB-48FF-AE7E-41F5C3D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D8C7A-BFD2-4DB2-AF16-236B023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14F0-CA17-4204-9769-5A95080E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E2905-F80C-4EC4-8BDC-FFA2874C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6449B-430E-4F72-9A67-A1829FD2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BB77D-3A8A-45BA-BC06-A2CF092D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D2DAD-4A41-49D7-9E88-6CE68BEE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5C776-BE00-4C28-9CA1-D95CE85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99F13-6E7C-4783-8A4F-0D4818FB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9DD8F-BBDC-49E2-BCBA-3416BC6D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80E98-B0B7-4897-BF5A-4823F35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EFFB3-0824-4BA6-9DBB-0C0AE1C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911AA-64B6-4FF9-B20F-C449BE4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83F-98F5-4EB0-95B2-245EDB5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1F01-5B77-4FB0-AA88-0434071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1DDAD-4AAF-489D-8B36-265E5690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70F69-FE81-40F2-BD37-E7F0F3E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5D209-E0AE-494B-93BA-4EFF1A35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0F44E-8D8B-4137-BBDF-ABBBE47D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2BC96-FA02-4007-9BC6-648ED8E9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CBF95-00ED-42B4-8CBF-60B1DD13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11548-6F5B-4609-98AF-40C9CA95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F9764-252F-4A09-85F1-B0949237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B2334-1893-438D-AEAE-7DDC05B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63D0C-2A48-441B-9AA2-54AE91A4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F442-E757-4250-913C-507006B8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40D8B-C047-4570-962B-561C805A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D1C33-D814-46ED-8B82-4272FC16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6FD18-7EB1-44D2-88A7-711C816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2B262-4EEB-4887-9351-467ACAB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BF33C-4885-4B9C-9538-05B8A86C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3AB93-A6F7-49E8-BED7-E4920015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D0667-1D4F-4FDC-B46B-ADEEE974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359740-8AF0-4427-BDDB-15FA231A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02C460-445D-45F8-AB1A-35FA46CE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16A310-6A7E-4B80-B6F9-2D8F0299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3A96-4D09-4329-8E4A-00F64A2B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572447-DDA3-470B-8BE6-D497ED42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586077-0C0E-4C47-9019-2084A15E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67099C-E75C-430D-B125-5EB51D1C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6AF82A-AC09-40CE-A93E-AA9A146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22AEA5-3D87-46B0-970E-A13498B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E5AAFF-50AF-4F65-9FCD-621A249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0103CF-03D4-48DD-B426-9D59AAF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33BEE2-E074-41BC-BF5F-58B2DA84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929395-0BD8-4D39-8D7E-14649245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B232B-9BF8-45A4-9B32-BAE7819C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4201-DFCA-4E2D-8E38-E18CB369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B101D-FB16-4590-9E7B-8492EB95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30D3C-B0F0-4EC5-9E0B-E4076643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F9DF4-1374-4C61-BDEB-FB7EDFF1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025E7-335B-4572-B2CE-481090DD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05C68-B7A3-40B0-A1F2-DF60E2B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E9559-C82E-4EB9-9F07-17F176B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25A50-A809-43F5-A22A-491158A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03B86-D444-4497-96BD-959E5E1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CA825-C5DC-4964-9089-ABD5CA49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5E578-CBFB-4A07-83AC-3C90F7B0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6836-584F-4289-B187-DBF4BE6B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07187-4CDB-4733-A902-DD18474A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69D367-027D-4AE0-9B83-2FF5FD18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211C7F-3999-425F-8E24-C671E448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6C89C0-2B64-4F1F-B5BA-53A7BDA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4D6BFA-EA0B-4718-A8D6-A0127074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61B5BB-39EB-410F-9A55-AA5E32B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7A21F1-C8D9-4875-9A2A-84245A54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313AED-343E-4835-ACCA-B882391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38D971-C7C6-4A24-BC56-E62C7A61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50A0B0-EEDF-499E-A106-A7774A6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E4BE-51BA-4C71-B281-5C5357DB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CCC27A-3CB3-4D8E-83F8-86A34254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E971D4-FFF1-41B1-822D-320589EA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6450AB-21AB-4468-9388-42C48CE7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A56773-D5C6-4E13-88E0-E7D1524C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58E6DB-F047-47DE-9327-5B922D87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A7DFF0-EA17-4A60-A40C-933999D4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D4050B-26B9-436F-B9A7-AF5E8B9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CD95E6-7B11-4010-AFC6-8A5D4A6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B3CD83-10FE-43E8-88B4-9600A718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18D4B0E-20D7-4A2D-AB97-EB1960A0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6E0A-933E-4F7B-99FF-44E8C514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C68F31A-DB25-47F1-84FF-4A67D6C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AC38E5-8ABF-4718-A65A-FA07FD4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BDE1AF-23B4-4D88-AB6B-1965790C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E8981B-F01E-4D30-B5CA-14187441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11BD0D-4604-44E3-A7D8-17B2C8D1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E3A3E1-5BDE-4BB5-A2C0-294AD2B2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279E55-43A3-4E35-A824-C9AEAF3D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C69934-EDEB-400E-9BE2-37240EF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1E682-8932-4DB7-BB1B-2B4F3A6D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D00E6-BFBD-45AF-B2B4-C4282293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ED4D-631B-46EA-B8A0-75C18125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8E0B4-53BE-48BE-B32F-42FEA2AB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99B28-992E-4C1B-970B-2A45574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09696B-D599-4AD0-AB89-15E0973E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4F0D3D-0E20-4671-AE2B-3D1E3C3C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EDF641-41E8-4BE7-B37D-DE1B253F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951DB-400A-4B0E-B603-5E826349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00BFF3-F4F2-486C-B9E1-FCC1A254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EB2EEA-E2C0-4446-85CB-93429E2B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ACE5E7-1527-4848-A39A-E20E0672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58AD33-3289-40F2-A9AB-7C4AE3F1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7A6E-F650-47D3-9CFC-2DD846BB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C28092-59F2-4FBC-B64D-F67EC9BE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4C7A05-997E-448E-8D9E-B3F86DA4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038CA1-5A05-48C0-89B9-C5922A71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CEB59B-9474-4F24-94F6-BE8CC62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CBAAD0-A82D-4FED-8ECB-52A20E4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9CFC8-8E82-4278-BB73-B3BCE7E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8A2B32-2146-4157-B3D8-DDB6A630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2A63D8-F7C5-44C2-AD72-B8D98939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AE2749-E4CE-440C-BFBC-E3CC06E6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C152-8798-4F13-9D31-8D3AD5F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02D-545D-4868-8E14-D79EE584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3B50-EE6A-440C-88AA-58E30191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DB3C-1B52-442D-A284-833AA877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F466-1C70-41B7-BDE4-27EBF4CD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437C-CA03-4629-BDDD-8B13F98B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5F8F-C3A4-46A8-9B6F-D7B14BE1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24D2-0D62-4577-9AE9-C3B965F4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5768-7A91-40CD-A6D1-5E349C2F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9139-59F9-4295-AE5D-1D409AF6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018A-D409-4385-9653-57F8BEE5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BAC9-35F9-489D-B55A-AD6E41C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610-975B-4BE0-9AC8-4C898C3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A3C3-136A-424A-8A78-83B9CF5B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E272-1036-43C8-90F3-0C1229DC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CEBB-A558-4B93-8EF3-132C153E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D660-2A06-465B-92A1-3EF7D42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30FB-5A29-4DB1-9004-4AEE8EA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7338-CABB-48F2-AEC1-7C54B68F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57D9-7CF8-4B8E-9913-CC5C8B21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75FC-BA0D-4A01-BA41-41319BDF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1EC46-4142-450A-A64A-CADA9281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1E02-153A-4313-8F87-D3E38630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7C8-1518-45FA-B7DB-86F5208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7867-1B0E-4D76-8354-AD70BD3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33B9-77FF-4EBD-83C1-9BEF0D5B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DF4CE-8612-46CD-8E0C-347286F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E0B2-A903-490E-A8DB-D29926A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6D4B-2B12-4A25-A307-818F258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8E64-E950-4659-94A0-78749F8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23C8-1C02-4903-9516-C2310A02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251D-9D9C-4B7E-B1A7-D91712F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A16D2-5391-46FF-A916-858C6C28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20893-721F-46EF-AFCA-99E6901A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F20-E3B4-4390-AFBC-3B70067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6DA80-8D89-40E5-B679-036B67E3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A8BE-E611-40CE-9C1D-5DD32959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D1F6D-DB9E-472A-93B6-9DA89D8C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4D00-67DF-44C8-868D-7750E7E5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551E-FB83-4DAA-A36A-7E6FE7B1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E6F5F-30D5-40A8-BD72-9A7C0E9E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94C0-3AF5-4F77-92C6-3FC36898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DDD5-54FE-4083-B01C-5A03CB9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E9F99-181D-470C-907A-2250AAE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91B7A-8984-4363-8F33-44070DBF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038-97A6-48F9-9D1C-AFF5665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0C5A3-44A2-4F50-ACD3-8770F69B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EA25-DD98-4A51-A5B1-A44645C9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CBA80-CE00-4164-AB4A-686F3A74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ABAE0-DF0F-4FEF-84C7-0E80E7C1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97B56-1634-4804-A2E6-ACB92327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AE351-98C0-4762-9BCD-071B2725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480A3-E282-4734-8B3D-D82CF4FD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D657-FF53-4A35-B333-9641AC37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7B8EF-C54D-42B8-B3BD-CA050D2D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C2DA9-C8A3-42E1-8555-2C4D006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19B-797C-4EC0-8DD9-E47039B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425FA-BCC9-46E2-A284-1283EB4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EFF63-1855-4143-B159-1188FB2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84B4-3DD7-459C-8EEF-40F783B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2701-1BA5-4691-9E12-F64DC07C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C3DE4-7589-487C-B3A3-7FC0C973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8027E-DE9E-47CC-A615-07209BD4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85785-35A4-4AFB-A157-4B7145E1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AF67-52FC-4686-BFBE-37D6C359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8D41-C6EF-467A-8804-B2743EE9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2D3FE-D13C-4FE4-A7D7-104D4238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FB6-3F0E-497E-800C-86740736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A2B04-5DBA-4CE0-8687-477A2AF8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873F4-C70D-4E9E-9356-04D4E7A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F1A8C-82D4-4C06-8586-8554FEB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26793-F2A7-4EA1-97BE-B93DC70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D9517-354E-4FF6-97A5-D66487CB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A7A3-77BE-47DE-ACBD-BFB86D22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D4DFB-4CE0-4A5D-9666-565D91C2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93553-B006-4826-B068-E794DD98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DB3A4-5CB2-4B6C-AF6E-47461790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CD772-BA4A-4368-BE87-90C9AC9A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AD7-2AA5-4446-9B03-390886E24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668B-2650-444D-AD09-7344957BB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B6A2-D593-4DB2-9E1F-F5B0653DE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EF6-4F3B-4EF2-B831-1D72B1067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AA3-0820-41F3-BC97-F0EAB53AD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0CE-A70C-48BF-AC37-67C4E0C7BA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C26-4510-470A-948B-A709E1DAAA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5F2-0C92-48D0-83D9-899BAC1D4A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2070-D8B1-4435-88E3-022F49116C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5BA8-CC18-43AE-A285-8A48019C17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5562-9318-45BD-A88A-ED3DA0EAB6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191-01E8-4D92-B299-F76F5FEB6F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6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1C57-73C2-47F2-8850-BAE54DDAAF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sldNum" idx="6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6530-59DC-41D3-B8C8-52850B0A36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ftr" idx="6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sldNum" idx="6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2C26-88DB-4EAD-B2F7-B16644BA9A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ftr" idx="6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E036-39B1-425D-9EB5-C9DB52FC10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571-03EC-44FD-9359-17EFBE78C7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5A5-AE59-4560-BD39-BCC923FA0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1D67-5002-4BC8-B0F5-29B7573B6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5C8D-29A5-4500-B146-C5D0CA48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8DB6-F9BA-4AD8-B1D0-A66094CD9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2506-0F07-4488-AB8B-41F74CF7B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B855-BDDD-4442-971C-D21BE8628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562B-6AE3-4055-B0EB-82C9E544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9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(4 WORD PARTS TODAY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4678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ADR, QUADRI, QUADRU, QUA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28240" y="167616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u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four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ur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a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enni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icyc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rt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up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up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r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adriplegi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0" name="Picture 6" descr="qiadd.jpg"/>
          <p:cNvPicPr/>
          <p:nvPr/>
        </p:nvPicPr>
        <p:blipFill>
          <a:blip r:embed="rId1"/>
          <a:stretch/>
        </p:blipFill>
        <p:spPr>
          <a:xfrm>
            <a:off x="3048120" y="3733920"/>
            <a:ext cx="1838160" cy="16383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7" descr="quad.jpg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8" descr="quartet.jpg"/>
          <p:cNvPicPr/>
          <p:nvPr/>
        </p:nvPicPr>
        <p:blipFill>
          <a:blip r:embed="rId3"/>
          <a:stretch/>
        </p:blipFill>
        <p:spPr>
          <a:xfrm>
            <a:off x="304920" y="3352680"/>
            <a:ext cx="2038320" cy="17719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9" descr="quartett.jpg"/>
          <p:cNvPicPr/>
          <p:nvPr/>
        </p:nvPicPr>
        <p:blipFill>
          <a:blip r:embed="rId4"/>
          <a:stretch/>
        </p:blipFill>
        <p:spPr>
          <a:xfrm>
            <a:off x="304920" y="5334120"/>
            <a:ext cx="2514600" cy="1218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0" descr="quadr.jpg"/>
          <p:cNvPicPr/>
          <p:nvPr/>
        </p:nvPicPr>
        <p:blipFill>
          <a:blip r:embed="rId5"/>
          <a:stretch/>
        </p:blipFill>
        <p:spPr>
          <a:xfrm>
            <a:off x="5715000" y="5791320"/>
            <a:ext cx="2209680" cy="10666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9" descr="quarter.jpg"/>
          <p:cNvPicPr/>
          <p:nvPr/>
        </p:nvPicPr>
        <p:blipFill>
          <a:blip r:embed="rId6"/>
          <a:stretch/>
        </p:blipFill>
        <p:spPr>
          <a:xfrm>
            <a:off x="3581280" y="2057400"/>
            <a:ext cx="1133640" cy="11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INQU, QUINQUE, QUINT, QUIN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fif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ive ti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9525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quang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te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small; a group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t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,000,000,000,000,000,0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uintuple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le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thickness; to fold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9" name="Picture 6" descr="quina.jpg"/>
          <p:cNvPicPr/>
          <p:nvPr/>
        </p:nvPicPr>
        <p:blipFill>
          <a:blip r:embed="rId1"/>
          <a:stretch/>
        </p:blipFill>
        <p:spPr>
          <a:xfrm>
            <a:off x="0" y="449568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qunitet.jpg"/>
          <p:cNvPicPr/>
          <p:nvPr/>
        </p:nvPicPr>
        <p:blipFill>
          <a:blip r:embed="rId2"/>
          <a:stretch/>
        </p:blipFill>
        <p:spPr>
          <a:xfrm>
            <a:off x="2819520" y="24382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151920" y="1980720"/>
            <a:ext cx="3814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gai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ac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03848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u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to lea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incar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nov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ive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life; living; aliv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cycle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yc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circle or wheel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e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04" name="Picture 6" descr="recycle.jpg"/>
          <p:cNvPicPr/>
          <p:nvPr/>
        </p:nvPicPr>
        <p:blipFill>
          <a:blip r:embed="rId1"/>
          <a:stretch/>
        </p:blipFill>
        <p:spPr>
          <a:xfrm>
            <a:off x="3581280" y="45720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7" descr="CP607MCA0U2NW2CACH3RO3CAKC2OEHCAXWA6JJCATVP5Z1CAH9DF3DCAUPR6FVCAL7CAJBCA5A8UCJCA8K64KACA673EO7CANJQRRVCAYQIYUOCARCM5A5CAUNLWMRCA3A7L7JCA6NBC9DCA3982AW.jpg"/>
          <p:cNvPicPr/>
          <p:nvPr/>
        </p:nvPicPr>
        <p:blipFill>
          <a:blip r:embed="rId2"/>
          <a:stretch/>
        </p:blipFill>
        <p:spPr>
          <a:xfrm>
            <a:off x="304920" y="3352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6" descr="reverse.jpg"/>
          <p:cNvPicPr/>
          <p:nvPr/>
        </p:nvPicPr>
        <p:blipFill>
          <a:blip r:embed="rId3"/>
          <a:stretch/>
        </p:blipFill>
        <p:spPr>
          <a:xfrm>
            <a:off x="6629400" y="152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7" descr="renovate.jpg"/>
          <p:cNvPicPr/>
          <p:nvPr/>
        </p:nvPicPr>
        <p:blipFill>
          <a:blip r:embed="rId4"/>
          <a:stretch/>
        </p:blipFill>
        <p:spPr>
          <a:xfrm>
            <a:off x="6858000" y="5257800"/>
            <a:ext cx="167652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P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380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break or bu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419720" y="1599840"/>
            <a:ext cx="3814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bru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rrupt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= prefix meaning with; together; jointly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pt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rup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11" name="Picture 7" descr="rupt.jpg"/>
          <p:cNvPicPr/>
          <p:nvPr/>
        </p:nvPicPr>
        <p:blipFill>
          <a:blip r:embed="rId1"/>
          <a:stretch/>
        </p:blipFill>
        <p:spPr>
          <a:xfrm>
            <a:off x="7238880" y="510552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8" descr="interr.jpg"/>
          <p:cNvPicPr/>
          <p:nvPr/>
        </p:nvPicPr>
        <p:blipFill>
          <a:blip r:embed="rId2"/>
          <a:stretch/>
        </p:blipFill>
        <p:spPr>
          <a:xfrm>
            <a:off x="380880" y="38098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9" descr="erupt.jpg"/>
          <p:cNvPicPr/>
          <p:nvPr/>
        </p:nvPicPr>
        <p:blipFill>
          <a:blip r:embed="rId3"/>
          <a:stretch/>
        </p:blipFill>
        <p:spPr>
          <a:xfrm>
            <a:off x="6858000" y="0"/>
            <a:ext cx="194328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5-04T20:50:18Z</dcterms:modified>
  <cp:revision>30</cp:revision>
  <dc:subject/>
  <dc:title>Roots List #1</dc:title>
</cp:coreProperties>
</file>